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5965-C06D-46F7-9128-C23BEE29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924B-7127-4B17-AF67-5D792A19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B7F4-B987-481E-9115-10743192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4696-6B09-48DF-97A1-7EE580C8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CC41-F6AE-4C4C-B696-659EDB01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BDD1-AAB9-4A73-A864-10880C66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9A3C-4BE3-40C0-85EC-BF924852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46C2-9D72-499D-B991-9774A4DF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4418-0475-4721-B507-5D8A02F5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05AC-F131-46CC-9966-7DD533F1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C89A-4560-4C61-94A3-88CDEB35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A02C-38CD-4AE7-8ED6-6ABED5EE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F1E1-2628-46B0-BB9B-305EDF6691C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360" y="1611720"/>
            <a:ext cx="4537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27600" y="2345400"/>
            <a:ext cx="399240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09:59:39Z</dcterms:modified>
  <cp:revision>577</cp:revision>
  <dc:subject/>
  <dc:title>Diapositiva 1</dc:title>
</cp:coreProperties>
</file>